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Gill Sans"/>
              </a:rPr>
              <a:t>Click to move the slide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46C-794F-40A3-A507-5308FDD5067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d cookie-less sessions..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41AC-7812-405F-AA07-4460EC31B21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8084-562C-4DFC-BB14-CBAD5E7B589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 from Chuck.   Please retain and maintain this page as you remix and republish these materials.  Please add any of your own improvements or contributions.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09840" y="914400"/>
            <a:ext cx="1323792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9840" y="914400"/>
            <a:ext cx="1323792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Gill Sans"/>
              </a:rPr>
              <a:t>Click to edit the title text format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4160" y="4710240"/>
            <a:ext cx="13934880" cy="10555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48000"/>
          </a:bodyPr>
          <a:p>
            <a:pPr marL="1638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63800" indent="-1638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5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6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irect, Routing, and Authentication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0000"/>
          </a:bodyPr>
          <a:p>
            <a:pPr marL="9471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34856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2" marL="17470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3" marL="21484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4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5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6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792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irect, Routing, and Authentication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Redirect, Routing, and Authentication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160" y="4710240"/>
            <a:ext cx="13934880" cy="22492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r. Charles Sever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ww.wa4e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13547880" y="7416720"/>
            <a:ext cx="196992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856320" y="7391520"/>
            <a:ext cx="83502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http://www.wa4e.com/code/route.zi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POST / Refresh / Redirect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cc66"/>
                </a:solidFill>
                <a:latin typeface="Gill Sans"/>
              </a:rPr>
              <a:t>POST / Refresh /</a:t>
            </a:r>
            <a:r>
              <a:rPr b="0" lang="en-US" sz="7600" spc="-1" strike="noStrike">
                <a:solidFill>
                  <a:srgbClr val="00ff00"/>
                </a:solidFill>
                <a:latin typeface="Gill Sans"/>
              </a:rPr>
              <a:t> </a:t>
            </a:r>
            <a:r>
              <a:rPr b="0" lang="en-US" sz="7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90760" y="2946240"/>
            <a:ext cx="132364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Once you do a POST, if you refresh, the browser will re-send the POST data a second time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user gets a pop-up that tries to explain what is about to happen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8464680" cy="580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13192200" y="993600"/>
            <a:ext cx="2789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guess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Line 4"/>
          <p:cNvSpPr/>
          <p:nvPr/>
        </p:nvSpPr>
        <p:spPr>
          <a:xfrm flipH="1" flipV="1">
            <a:off x="2147760" y="4689360"/>
            <a:ext cx="5989680" cy="50976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234040" y="3494880"/>
            <a:ext cx="2503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Press Submit then  Refres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8109000" y="2846520"/>
            <a:ext cx="82342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No Double Posts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ypically POST requests are adding or modifying data whilst GET requests view dat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It may be dangerous to do the same POST twice (say withdrawing funds from a bank account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o the browser insists on asking the user (out of your control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Kind of an ugly UX / bad usabil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POST Redirect Rule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3280" y="2565000"/>
            <a:ext cx="82706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4000"/>
          </a:bodyPr>
          <a:p>
            <a:pPr marL="871200" indent="-57276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simple rule for pages intended for a browser is to </a:t>
            </a: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never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generate a page with HTML content when the app receives POST dat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871200" indent="-57276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Must redirect somewhere - even to  the same script - forcing the browser to make a GET after the POS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9043920" y="2514600"/>
            <a:ext cx="662796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2573280" y="7551720"/>
            <a:ext cx="1016172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https://en.wikipedia.org/wiki/Post/Redirect/Ge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36560" y="2192400"/>
            <a:ext cx="7010280" cy="3733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8434440" y="1143000"/>
            <a:ext cx="716292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367760" y="8003160"/>
            <a:ext cx="875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guess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195560" y="914400"/>
            <a:ext cx="812772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'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false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POST['guess'])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Trick for integer / numeric parameters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$_POST['guess'] + 0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$guess ==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Great job!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if ( $guess &lt;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low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high...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itle&gt;A Guessing game&lt;/titl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Guessing game...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message !== false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$message&lt;/p&gt;\n")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label for="guess"&gt;Input Guess&lt;/labe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text" name="guess" id="guess" size="40"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  echo 'value="' . htmlentities($guess) . '"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&gt;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submit"/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body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828960" y="918360"/>
            <a:ext cx="248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Review)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219320" y="606600"/>
            <a:ext cx="812952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'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false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POST['guess'])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Trick for integer / numeric parameters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$_POST['guess'] + 0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$guess ==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Great job!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if ( $guess &lt;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low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high...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itle&gt;A Guessing game&lt;/titl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Guessing game...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message !== false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$message&lt;/p&gt;\n")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label for="guess"&gt;Input Guess&lt;/labe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text" name="guess" id="guess" size="40"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  echo 'value="' . htmlentities($guess) . '"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&gt;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submit"/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body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98880" y="990720"/>
            <a:ext cx="11482560" cy="769608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?php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''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false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POST['guess']) ) {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Nifty trick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$_POST['guess'] + 0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= 42 ) {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"Great job!"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if (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&lt; 42 ) {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"Too low"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{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3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= "Too high..."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 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828960" y="918360"/>
            <a:ext cx="248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Review)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219320" y="606600"/>
            <a:ext cx="812952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'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false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POST['guess'])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Trick for integer / numeric parameters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$_POST['guess'] + 0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$guess ==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Great job!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if ( $guess &lt; 42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low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message = "Too high..."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itle&gt;A Guessing game&lt;/title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head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Guessing game...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message !== false ) {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$message&lt;/p&gt;\n")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label for="guess"&gt;Input Guess&lt;/label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text" name="guess" id="guess" size="40"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  echo 'value="' . htmlentities($guess) . '"'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&gt;&lt;/p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submit"/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body&gt;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014720" y="1049400"/>
            <a:ext cx="11937960" cy="677376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 Bold"/>
                <a:ea typeface="ＭＳ Ｐゴシック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ead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itle&gt;A Guessing game&lt;/title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head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Guessing game...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  if ( 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!== false ) 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p&gt;\n"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label for="guess"&gt;Input Guess&lt;/labe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text" name="guess" id="guess" size="40" &lt;?php   echo 'value="' . htmlentities(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. '"'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&gt;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submit"/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form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body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828960" y="918360"/>
            <a:ext cx="248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Review)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888840" y="838080"/>
            <a:ext cx="14251320" cy="752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?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ssion_start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isset($_POST['guess']) 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guess = $_POST['guess'] +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_SESSION['guess'] = $guess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if ( $guess == 42 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_SESSION['message'] = "Great job!"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if ( $guess &lt; 42 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_SESSION['message'] = "Too low"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 else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_SESSION['message'] = "Too high...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"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header("Location: guess2.php"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return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html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7469280" y="7774560"/>
            <a:ext cx="847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guess2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2799080" y="873720"/>
            <a:ext cx="250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Improved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6299280" y="914400"/>
            <a:ext cx="5030640" cy="6669000"/>
          </a:xfrm>
          <a:prstGeom prst="rect">
            <a:avLst/>
          </a:prstGeom>
          <a:solidFill>
            <a:srgbClr val="54b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2244320" y="925560"/>
            <a:ext cx="4013280" cy="66578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7350120" y="947880"/>
            <a:ext cx="328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4240" y="914400"/>
            <a:ext cx="3462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480" y="77940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Down Arrow 7"/>
          <p:cNvSpPr/>
          <p:nvPr/>
        </p:nvSpPr>
        <p:spPr>
          <a:xfrm>
            <a:off x="431640" y="1542960"/>
            <a:ext cx="533520" cy="6734160"/>
          </a:xfrm>
          <a:prstGeom prst="downArrow">
            <a:avLst>
              <a:gd name="adj1" fmla="val 50000"/>
              <a:gd name="adj2" fmla="val 4996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5460840" y="4438800"/>
            <a:ext cx="635040" cy="3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>
            <a:off x="11482560" y="4502160"/>
            <a:ext cx="634680" cy="393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3"/>
          <p:cNvSpPr/>
          <p:nvPr/>
        </p:nvSpPr>
        <p:spPr>
          <a:xfrm>
            <a:off x="6680160" y="2673360"/>
            <a:ext cx="3430800" cy="472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7365960" y="3905280"/>
            <a:ext cx="2440080" cy="3238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7699320" y="38098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2701520" y="2111400"/>
            <a:ext cx="320040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Can 21"/>
          <p:cNvSpPr/>
          <p:nvPr/>
        </p:nvSpPr>
        <p:spPr>
          <a:xfrm>
            <a:off x="13311360" y="6262560"/>
            <a:ext cx="2209680" cy="1008360"/>
          </a:xfrm>
          <a:prstGeom prst="can">
            <a:avLst>
              <a:gd name="adj" fmla="val 50000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113" name="Straight Arrow Connector 18"/>
          <p:cNvCxnSpPr/>
          <p:nvPr/>
        </p:nvCxnSpPr>
        <p:spPr>
          <a:xfrm>
            <a:off x="3936600" y="2046240"/>
            <a:ext cx="3353400" cy="505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" name="Straight Arrow Connector 26"/>
          <p:cNvCxnSpPr/>
          <p:nvPr/>
        </p:nvCxnSpPr>
        <p:spPr>
          <a:xfrm flipV="1">
            <a:off x="3631680" y="2612160"/>
            <a:ext cx="266796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Rectangle 22"/>
          <p:cNvSpPr/>
          <p:nvPr/>
        </p:nvSpPr>
        <p:spPr>
          <a:xfrm>
            <a:off x="1650960" y="914400"/>
            <a:ext cx="3581280" cy="6669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376360" y="914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2946240" y="5254560"/>
            <a:ext cx="1981440" cy="207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08160" y="1542960"/>
            <a:ext cx="601560" cy="572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4375080" y="7772400"/>
            <a:ext cx="2481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RRC/HTT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11144880" y="7772400"/>
            <a:ext cx="11736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556080" y="3522600"/>
            <a:ext cx="1676160" cy="87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ar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8129520" y="4811760"/>
            <a:ext cx="1524240" cy="206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sfun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0452240" y="5162400"/>
            <a:ext cx="533160" cy="1981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D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540240" y="2405160"/>
            <a:ext cx="1676160" cy="90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n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ques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736560" y="677880"/>
            <a:ext cx="15216120" cy="782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tm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head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title&gt;A Guessing game&lt;/title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head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 = isset($_SESSION['guess']) ? $_SESSION['guess'] : ''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 = isset($_SESSION['message']) ? $_SESSION['message'] : false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Guessing game...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!== false ) 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message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p&gt;\n"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label for="guess"&gt;Input Guess&lt;/labe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text" name="guess" id="guess" size="40" 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  echo 'value="' . htmlentities(</a:t>
            </a:r>
            <a:r>
              <a:rPr b="0" lang="en-US" sz="21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$guess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. '"';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&gt;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input type="submit"/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form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body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792600" y="993600"/>
            <a:ext cx="3117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guess2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438280" y="236520"/>
            <a:ext cx="11246040" cy="8467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7858080" y="1727280"/>
            <a:ext cx="54500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Enter "41" and press "Submit"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421000" y="236520"/>
            <a:ext cx="11245680" cy="8467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7315200" y="1727280"/>
            <a:ext cx="5433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Press "Refresh"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6299280" y="914400"/>
            <a:ext cx="5030640" cy="6669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2244320" y="925560"/>
            <a:ext cx="4013280" cy="66578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7350120" y="947880"/>
            <a:ext cx="328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2144240" y="914400"/>
            <a:ext cx="3462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6480" y="77940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Down Arrow 7"/>
          <p:cNvSpPr/>
          <p:nvPr/>
        </p:nvSpPr>
        <p:spPr>
          <a:xfrm>
            <a:off x="431640" y="1542960"/>
            <a:ext cx="533520" cy="6734160"/>
          </a:xfrm>
          <a:prstGeom prst="downArrow">
            <a:avLst>
              <a:gd name="adj1" fmla="val 50000"/>
              <a:gd name="adj2" fmla="val 4996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5460840" y="4438800"/>
            <a:ext cx="63504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11482560" y="4502160"/>
            <a:ext cx="634680" cy="393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6680160" y="2673360"/>
            <a:ext cx="4479840" cy="472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7304040" y="18572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7365960" y="3905280"/>
            <a:ext cx="3619440" cy="3238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7699320" y="38098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12701520" y="2111400"/>
            <a:ext cx="320040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Can 21"/>
          <p:cNvSpPr/>
          <p:nvPr/>
        </p:nvSpPr>
        <p:spPr>
          <a:xfrm>
            <a:off x="13311360" y="6262560"/>
            <a:ext cx="2209680" cy="1008360"/>
          </a:xfrm>
          <a:prstGeom prst="can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00" name="Straight Arrow Connector 18"/>
          <p:cNvCxnSpPr/>
          <p:nvPr/>
        </p:nvCxnSpPr>
        <p:spPr>
          <a:xfrm>
            <a:off x="3936600" y="2046240"/>
            <a:ext cx="3353400" cy="505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01" name="Straight Arrow Connector 26"/>
          <p:cNvCxnSpPr/>
          <p:nvPr/>
        </p:nvCxnSpPr>
        <p:spPr>
          <a:xfrm flipV="1">
            <a:off x="3631680" y="2612160"/>
            <a:ext cx="266796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202" name="Rectangle 22"/>
          <p:cNvSpPr/>
          <p:nvPr/>
        </p:nvSpPr>
        <p:spPr>
          <a:xfrm>
            <a:off x="1650960" y="914400"/>
            <a:ext cx="3581280" cy="6669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376360" y="914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2946240" y="5254560"/>
            <a:ext cx="1981440" cy="207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2108160" y="1542960"/>
            <a:ext cx="533520" cy="572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75080" y="7772400"/>
            <a:ext cx="2481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RRC/HTT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11144880" y="7772400"/>
            <a:ext cx="11736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3556080" y="3522600"/>
            <a:ext cx="1676160" cy="87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ar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8535960" y="4811760"/>
            <a:ext cx="1488960" cy="206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sfun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0304640" y="4843440"/>
            <a:ext cx="533160" cy="1981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D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Can 27"/>
          <p:cNvSpPr/>
          <p:nvPr/>
        </p:nvSpPr>
        <p:spPr>
          <a:xfrm>
            <a:off x="866304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Can 29"/>
          <p:cNvSpPr/>
          <p:nvPr/>
        </p:nvSpPr>
        <p:spPr>
          <a:xfrm>
            <a:off x="950112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6f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Can 30"/>
          <p:cNvSpPr/>
          <p:nvPr/>
        </p:nvSpPr>
        <p:spPr>
          <a:xfrm>
            <a:off x="1033956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3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6519960" y="1592280"/>
            <a:ext cx="2292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ssions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3540240" y="2405160"/>
            <a:ext cx="1676160" cy="90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n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ques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4"/>
          <a:stretch/>
        </p:blipFill>
        <p:spPr>
          <a:xfrm>
            <a:off x="3570120" y="1244520"/>
            <a:ext cx="114624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Implementing Login and Logout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Session / Authentication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90760" y="2946240"/>
            <a:ext cx="13392000" cy="535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2000"/>
          </a:bodyPr>
          <a:p>
            <a:pPr marL="560520" indent="-5605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Having a session is not the same as being logged i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60520" indent="-5605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enerally you have a session the instant you connect to a web site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60520" indent="-5605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Session ID cookie is set when the first page is deliver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60520" indent="-5605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Login puts user information in the session (stored in the server)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60520" indent="-56052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Logout removes user information from the sess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299280" y="914400"/>
            <a:ext cx="5030640" cy="6669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2244320" y="925560"/>
            <a:ext cx="4013280" cy="66578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7350120" y="947880"/>
            <a:ext cx="328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2144240" y="914400"/>
            <a:ext cx="3462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480" y="77940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Down Arrow 7"/>
          <p:cNvSpPr/>
          <p:nvPr/>
        </p:nvSpPr>
        <p:spPr>
          <a:xfrm>
            <a:off x="431640" y="1542960"/>
            <a:ext cx="533520" cy="6734160"/>
          </a:xfrm>
          <a:prstGeom prst="downArrow">
            <a:avLst>
              <a:gd name="adj1" fmla="val 50000"/>
              <a:gd name="adj2" fmla="val 4996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2"/>
          <a:stretch/>
        </p:blipFill>
        <p:spPr>
          <a:xfrm>
            <a:off x="5460840" y="4438800"/>
            <a:ext cx="635040" cy="39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"/>
          <p:cNvPicPr/>
          <p:nvPr/>
        </p:nvPicPr>
        <p:blipFill>
          <a:blip r:embed="rId3"/>
          <a:stretch/>
        </p:blipFill>
        <p:spPr>
          <a:xfrm>
            <a:off x="11482560" y="4502160"/>
            <a:ext cx="634680" cy="393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3"/>
          <p:cNvSpPr/>
          <p:nvPr/>
        </p:nvSpPr>
        <p:spPr>
          <a:xfrm>
            <a:off x="6680160" y="2673360"/>
            <a:ext cx="4479840" cy="472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TextBox 14"/>
          <p:cNvSpPr/>
          <p:nvPr/>
        </p:nvSpPr>
        <p:spPr>
          <a:xfrm>
            <a:off x="7304040" y="18572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7365960" y="3905280"/>
            <a:ext cx="3619440" cy="3238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7699320" y="38098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12701520" y="2111400"/>
            <a:ext cx="320040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Can 21"/>
          <p:cNvSpPr/>
          <p:nvPr/>
        </p:nvSpPr>
        <p:spPr>
          <a:xfrm>
            <a:off x="13311360" y="6262560"/>
            <a:ext cx="2209680" cy="1008360"/>
          </a:xfrm>
          <a:prstGeom prst="can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34" name="Straight Arrow Connector 18"/>
          <p:cNvCxnSpPr/>
          <p:nvPr/>
        </p:nvCxnSpPr>
        <p:spPr>
          <a:xfrm>
            <a:off x="3936600" y="2046240"/>
            <a:ext cx="3353400" cy="505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5" name="Straight Arrow Connector 26"/>
          <p:cNvCxnSpPr/>
          <p:nvPr/>
        </p:nvCxnSpPr>
        <p:spPr>
          <a:xfrm flipV="1">
            <a:off x="3631680" y="2612160"/>
            <a:ext cx="266796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Rectangle 22"/>
          <p:cNvSpPr/>
          <p:nvPr/>
        </p:nvSpPr>
        <p:spPr>
          <a:xfrm>
            <a:off x="1650960" y="914400"/>
            <a:ext cx="3581280" cy="6669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376360" y="914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2946240" y="5254560"/>
            <a:ext cx="1981440" cy="207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2108160" y="1542960"/>
            <a:ext cx="533520" cy="572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4375080" y="7772400"/>
            <a:ext cx="2481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RRC/HTT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11144880" y="7772400"/>
            <a:ext cx="11736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3556080" y="3522600"/>
            <a:ext cx="1676160" cy="87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ar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8535960" y="4811760"/>
            <a:ext cx="1488960" cy="206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sfun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0304640" y="4843440"/>
            <a:ext cx="533160" cy="1981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D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Can 27"/>
          <p:cNvSpPr/>
          <p:nvPr/>
        </p:nvSpPr>
        <p:spPr>
          <a:xfrm>
            <a:off x="866304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Can 29"/>
          <p:cNvSpPr/>
          <p:nvPr/>
        </p:nvSpPr>
        <p:spPr>
          <a:xfrm>
            <a:off x="950112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6f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Can 30"/>
          <p:cNvSpPr/>
          <p:nvPr/>
        </p:nvSpPr>
        <p:spPr>
          <a:xfrm>
            <a:off x="1033956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3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6519960" y="1592280"/>
            <a:ext cx="2292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ssions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3540240" y="2405160"/>
            <a:ext cx="1676160" cy="90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n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ques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4"/>
          <a:stretch/>
        </p:blipFill>
        <p:spPr>
          <a:xfrm>
            <a:off x="3570120" y="1244520"/>
            <a:ext cx="114624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35000" y="236520"/>
            <a:ext cx="8039160" cy="62737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541440" y="7069680"/>
            <a:ext cx="70452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http://www.wa4e.com/code/route/app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http://www.wa4e.com/code/route.zi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0296360" y="482760"/>
            <a:ext cx="57643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Simple application with login, logout, and flash using 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2890800" y="958680"/>
            <a:ext cx="8037720" cy="6274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5645160" y="1682640"/>
            <a:ext cx="8039160" cy="6274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4"/>
          <a:stretch/>
        </p:blipFill>
        <p:spPr>
          <a:xfrm>
            <a:off x="8399520" y="2405160"/>
            <a:ext cx="803916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3384800" y="840960"/>
            <a:ext cx="2559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login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1219320" y="779400"/>
            <a:ext cx="1368396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body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tyl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7c2e3f"/>
                </a:solidFill>
                <a:latin typeface="Courier New"/>
              </a:rPr>
              <a:t>font-family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: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ans-serif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Log I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de-DE" sz="25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de-DE" sz="2500" spc="-1" strike="noStrike">
                <a:solidFill>
                  <a:srgbClr val="dd495d"/>
                </a:solidFill>
                <a:latin typeface="Courier New"/>
              </a:rPr>
              <a:t>isset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pl-PL" sz="25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'&lt;p style="color:red"&gt;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pl-PL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is-IS" sz="2500" spc="-1" strike="noStrike">
                <a:solidFill>
                  <a:srgbClr val="dd495d"/>
                </a:solidFill>
                <a:latin typeface="Courier New"/>
              </a:rPr>
              <a:t>unset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is-IS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'&lt;p style="color:green"&gt;'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en-US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un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form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method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ost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Account: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assword: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w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78699"/>
                </a:solidFill>
                <a:latin typeface="Courier New"/>
              </a:rPr>
              <a:t>&lt;!-- password is umsi --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bmi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 In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pp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Cance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form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body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119240" y="1219320"/>
            <a:ext cx="1422396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session_star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&amp;&amp;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POS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w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un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878699"/>
                </a:solidFill>
                <a:latin typeface="Courier New"/>
              </a:rPr>
              <a:t>// Logout current user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tr-TR" sz="25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tr-TR" sz="2500" spc="-1" strike="noStrike">
                <a:solidFill>
                  <a:srgbClr val="18b9b7"/>
                </a:solidFill>
                <a:latin typeface="Courier New"/>
              </a:rPr>
              <a:t>'pw'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</a:rPr>
              <a:t>==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2500" spc="-1" strike="noStrike">
                <a:solidFill>
                  <a:srgbClr val="18b9b7"/>
                </a:solidFill>
                <a:latin typeface="Courier New"/>
              </a:rPr>
              <a:t>'umsi'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tr-TR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tr-TR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$_POST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de-DE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Logged in."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1" lang="de-DE" sz="2500" spc="-1" strike="noStrike">
                <a:solidFill>
                  <a:srgbClr val="dd495d"/>
                </a:solidFill>
                <a:latin typeface="Courier New"/>
              </a:rPr>
              <a:t>header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18b9b7"/>
                </a:solidFill>
                <a:latin typeface="Courier New"/>
              </a:rPr>
              <a:t>'Location: app.php'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1" lang="is-IS" sz="2500" spc="-1" strike="noStrike">
                <a:solidFill>
                  <a:srgbClr val="dd495d"/>
                </a:solidFill>
                <a:latin typeface="Courier New"/>
              </a:rPr>
              <a:t>return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s-IS" sz="2500" spc="-1" strike="noStrike">
                <a:solidFill>
                  <a:srgbClr val="dd495d"/>
                </a:solidFill>
                <a:latin typeface="Courier New"/>
              </a:rPr>
              <a:t>else</a:t>
            </a: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Incorrect password."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1" lang="pl-PL" sz="2500" spc="-1" strike="noStrike">
                <a:solidFill>
                  <a:srgbClr val="dd495d"/>
                </a:solidFill>
                <a:latin typeface="Courier New"/>
              </a:rPr>
              <a:t>header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'Location: login.php'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    </a:t>
            </a:r>
            <a:r>
              <a:rPr b="1" lang="is-IS" sz="2500" spc="-1" strike="noStrike">
                <a:solidFill>
                  <a:srgbClr val="dd495d"/>
                </a:solidFill>
                <a:latin typeface="Courier New"/>
              </a:rPr>
              <a:t>return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 New"/>
              </a:rPr>
              <a:t>htm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7432920" y="7774560"/>
            <a:ext cx="810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login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HTTP Status Codes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90760" y="2811600"/>
            <a:ext cx="13236480" cy="41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http://www.dr-chuck.com/page1.htm - </a:t>
            </a:r>
            <a:r>
              <a:rPr b="0" lang="en-US" sz="3700" spc="-1" strike="noStrike">
                <a:solidFill>
                  <a:srgbClr val="ffff00"/>
                </a:solidFill>
                <a:latin typeface="Gill Sans"/>
              </a:rPr>
              <a:t>200 OK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http://www.wa4e.com/nowhere.htm - </a:t>
            </a:r>
            <a:r>
              <a:rPr b="0" lang="en-US" sz="3700" spc="-1" strike="noStrike">
                <a:solidFill>
                  <a:srgbClr val="ffff00"/>
                </a:solidFill>
                <a:latin typeface="Gill Sans"/>
              </a:rPr>
              <a:t>404 Not Found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http://www.drchuck.com/ - </a:t>
            </a:r>
            <a:r>
              <a:rPr b="0" lang="en-US" sz="3700" spc="-1" strike="noStrike">
                <a:solidFill>
                  <a:srgbClr val="ffff00"/>
                </a:solidFill>
                <a:latin typeface="Gill Sans"/>
              </a:rPr>
              <a:t>302 Found / Moved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711360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  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Also known as “redirect”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033640" y="7543800"/>
            <a:ext cx="1178568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https://en.wikipedia.org/wiki/List_of_HTTP_status_cod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9240" y="914400"/>
            <a:ext cx="839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cc66"/>
                </a:solidFill>
                <a:latin typeface="Gill Sans"/>
              </a:rPr>
              <a:t>POST-Redirect-GET-Flash</a:t>
            </a:r>
            <a:endParaRPr b="0" lang="en-US" sz="57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60680" y="2674800"/>
            <a:ext cx="7721280" cy="535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OST detects error in input data  and puts a message into $_SESSION and redirec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ET sees the message in the session, displays it and then deletes i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lash = “Seen once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9729720" y="838080"/>
            <a:ext cx="5700960" cy="80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69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0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1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74" name="Straight Arrow Connector 4"/>
          <p:cNvCxnSpPr/>
          <p:nvPr/>
        </p:nvCxnSpPr>
        <p:spPr>
          <a:xfrm>
            <a:off x="3084480" y="2852280"/>
            <a:ext cx="32400" cy="1917000"/>
          </a:xfrm>
          <a:prstGeom prst="straightConnector1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75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77" name="Straight Arrow Connector 45"/>
          <p:cNvCxnSpPr/>
          <p:nvPr/>
        </p:nvCxnSpPr>
        <p:spPr>
          <a:xfrm flipV="1">
            <a:off x="3835080" y="2851920"/>
            <a:ext cx="1548360" cy="181548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78" name="TextBox 3"/>
          <p:cNvSpPr/>
          <p:nvPr/>
        </p:nvSpPr>
        <p:spPr>
          <a:xfrm>
            <a:off x="3835440" y="6727680"/>
            <a:ext cx="1868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Bad PW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79" name="Straight Arrow Connector 47"/>
          <p:cNvCxnSpPr/>
          <p:nvPr/>
        </p:nvCxnSpPr>
        <p:spPr>
          <a:xfrm>
            <a:off x="2858760" y="5946480"/>
            <a:ext cx="1354680" cy="85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0" name="TextBox 23"/>
          <p:cNvSpPr/>
          <p:nvPr/>
        </p:nvSpPr>
        <p:spPr>
          <a:xfrm>
            <a:off x="4493520" y="3798720"/>
            <a:ext cx="24415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ill Sans"/>
              </a:rPr>
              <a:t>Redirect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86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87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288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3835440" y="6727680"/>
            <a:ext cx="1868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Bad PW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96" name="Straight Arrow Connector 27"/>
          <p:cNvCxnSpPr/>
          <p:nvPr/>
        </p:nvCxnSpPr>
        <p:spPr>
          <a:xfrm flipH="1">
            <a:off x="6121080" y="2785680"/>
            <a:ext cx="2592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7" name="Straight Arrow Connector 47"/>
          <p:cNvCxnSpPr>
            <a:stCxn id="293" idx="0"/>
          </p:cNvCxnSpPr>
          <p:nvPr/>
        </p:nvCxnSpPr>
        <p:spPr>
          <a:xfrm flipV="1">
            <a:off x="4770360" y="5925240"/>
            <a:ext cx="1191600" cy="802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03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4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305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TextBox 34"/>
          <p:cNvSpPr/>
          <p:nvPr/>
        </p:nvSpPr>
        <p:spPr>
          <a:xfrm>
            <a:off x="6144120" y="2181240"/>
            <a:ext cx="14738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ill Sans"/>
              </a:rPr>
              <a:t>Bad PW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13" name="Straight Arrow Connector 27"/>
          <p:cNvCxnSpPr/>
          <p:nvPr/>
        </p:nvCxnSpPr>
        <p:spPr>
          <a:xfrm flipH="1">
            <a:off x="6121080" y="2785680"/>
            <a:ext cx="2592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4" name="Straight Arrow Connector 28"/>
          <p:cNvCxnSpPr/>
          <p:nvPr/>
        </p:nvCxnSpPr>
        <p:spPr>
          <a:xfrm flipV="1">
            <a:off x="6525720" y="2785680"/>
            <a:ext cx="1080" cy="188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15" name="TextBox 23"/>
          <p:cNvSpPr/>
          <p:nvPr/>
        </p:nvSpPr>
        <p:spPr>
          <a:xfrm>
            <a:off x="8380080" y="1684440"/>
            <a:ext cx="2304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ash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21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2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323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C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6144120" y="2181240"/>
            <a:ext cx="14738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ill Sans"/>
              </a:rPr>
              <a:t>Bad PW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821700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8272440" y="1643040"/>
            <a:ext cx="248760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33" name="Straight Arrow Connector 29"/>
          <p:cNvCxnSpPr/>
          <p:nvPr/>
        </p:nvCxnSpPr>
        <p:spPr>
          <a:xfrm flipH="1">
            <a:off x="9214920" y="2785680"/>
            <a:ext cx="2304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4" name="Straight Arrow Connector 30"/>
          <p:cNvCxnSpPr/>
          <p:nvPr/>
        </p:nvCxnSpPr>
        <p:spPr>
          <a:xfrm flipV="1">
            <a:off x="9615240" y="2785680"/>
            <a:ext cx="1080" cy="188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5" name="TextBox 23"/>
          <p:cNvSpPr/>
          <p:nvPr/>
        </p:nvSpPr>
        <p:spPr>
          <a:xfrm>
            <a:off x="11557440" y="1679400"/>
            <a:ext cx="3253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Refresh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3537440" y="917280"/>
            <a:ext cx="2559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login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1219320" y="779400"/>
            <a:ext cx="1368396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tyl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7c2e3f"/>
                </a:solidFill>
                <a:latin typeface="Courier New"/>
              </a:rPr>
              <a:t>font-family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: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ans-serif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Log I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de-DE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de-DE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pl-PL" sz="2500" spc="-1" strike="noStrike">
                <a:solidFill>
                  <a:srgbClr val="dd495d"/>
                </a:solidFill>
                <a:latin typeface="Courier-Bold"/>
              </a:rPr>
              <a:t>echo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'&lt;p style="color:red"&gt;'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pl-PL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pl-PL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pl-PL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is-IS" sz="2500" spc="-1" strike="noStrike">
                <a:solidFill>
                  <a:srgbClr val="dd495d"/>
                </a:solidFill>
                <a:latin typeface="Courier-Bold"/>
              </a:rPr>
              <a:t>unset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is-IS" sz="2500" spc="-1" strike="noStrike">
                <a:solidFill>
                  <a:srgbClr val="18b9b7"/>
                </a:solidFill>
                <a:latin typeface="Courier New"/>
              </a:rPr>
              <a:t>"error"</a:t>
            </a:r>
            <a:r>
              <a:rPr b="0" lang="is-I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ech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'&lt;p style="color:green"&gt;'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en-US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un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form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method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ost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Account: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assword: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tex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pw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78699"/>
                </a:solidFill>
                <a:latin typeface="Courier New"/>
              </a:rPr>
              <a:t>&lt;!-- password is umsi --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nput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bmit"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 In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pp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Cance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form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966960" y="914400"/>
            <a:ext cx="15430320" cy="638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tm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ead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ead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tyl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7c2e3f"/>
                </a:solidFill>
                <a:latin typeface="Courier New"/>
              </a:rPr>
              <a:t>font-family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: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ans-serif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Cool Applicatio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ech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'&lt;p style="color:green"&gt;'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en-US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un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2500" spc="-1" strike="noStrike">
                <a:solidFill>
                  <a:srgbClr val="878699"/>
                </a:solidFill>
                <a:latin typeface="Courier New"/>
              </a:rPr>
              <a:t>// Check if we are logged in!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!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in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Log I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o start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c7c7c7"/>
                </a:solidFill>
                <a:latin typeface="Courier New"/>
              </a:rPr>
              <a:t>    </a:t>
            </a:r>
            <a:r>
              <a:rPr b="0" lang="hu-HU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2500" spc="-1" strike="noStrike">
                <a:solidFill>
                  <a:srgbClr val="dd495d"/>
                </a:solidFill>
                <a:latin typeface="Courier-Bold"/>
              </a:rPr>
              <a:t>else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9f47a0"/>
                </a:solidFill>
                <a:latin typeface="Courier New"/>
              </a:rPr>
              <a:t>{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This is where a cool application would be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out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Log Out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when you are done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c7c7c7"/>
                </a:solidFill>
                <a:latin typeface="Courier New"/>
              </a:rPr>
              <a:t>    </a:t>
            </a:r>
            <a:r>
              <a:rPr b="0" lang="pl-PL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pl-PL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pl-PL" sz="2500" spc="-1" strike="noStrike">
                <a:solidFill>
                  <a:srgbClr val="dd495d"/>
                </a:solidFill>
                <a:latin typeface="Courier-Bold"/>
              </a:rPr>
              <a:t>html</a:t>
            </a: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274520" y="7750800"/>
            <a:ext cx="788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app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45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46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347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50" name="Straight Arrow Connector 4"/>
          <p:cNvCxnSpPr/>
          <p:nvPr/>
        </p:nvCxnSpPr>
        <p:spPr>
          <a:xfrm>
            <a:off x="3084480" y="2852280"/>
            <a:ext cx="32400" cy="1917000"/>
          </a:xfrm>
          <a:prstGeom prst="straightConnector1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51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53" name="Straight Arrow Connector 45"/>
          <p:cNvCxnSpPr/>
          <p:nvPr/>
        </p:nvCxnSpPr>
        <p:spPr>
          <a:xfrm flipV="1">
            <a:off x="3835080" y="2851920"/>
            <a:ext cx="1548360" cy="181548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354" name="TextBox 3"/>
          <p:cNvSpPr/>
          <p:nvPr/>
        </p:nvSpPr>
        <p:spPr>
          <a:xfrm>
            <a:off x="3835440" y="6711840"/>
            <a:ext cx="23972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Logged I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55" name="Straight Arrow Connector 47"/>
          <p:cNvCxnSpPr/>
          <p:nvPr/>
        </p:nvCxnSpPr>
        <p:spPr>
          <a:xfrm>
            <a:off x="3678120" y="6062400"/>
            <a:ext cx="535680" cy="74196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56" name="TextBox 3"/>
          <p:cNvSpPr/>
          <p:nvPr/>
        </p:nvSpPr>
        <p:spPr>
          <a:xfrm>
            <a:off x="1817640" y="6750000"/>
            <a:ext cx="1860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accou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57" name="Straight Arrow Connector 47"/>
          <p:cNvCxnSpPr/>
          <p:nvPr/>
        </p:nvCxnSpPr>
        <p:spPr>
          <a:xfrm>
            <a:off x="2572920" y="6062760"/>
            <a:ext cx="1080" cy="94824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58" name="TextBox 23"/>
          <p:cNvSpPr/>
          <p:nvPr/>
        </p:nvSpPr>
        <p:spPr>
          <a:xfrm>
            <a:off x="4493520" y="3798720"/>
            <a:ext cx="24415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ill Sans"/>
              </a:rPr>
              <a:t>Redirect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64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65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366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p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73" name="Straight Arrow Connector 27"/>
          <p:cNvCxnSpPr/>
          <p:nvPr/>
        </p:nvCxnSpPr>
        <p:spPr>
          <a:xfrm flipH="1">
            <a:off x="6121080" y="2785680"/>
            <a:ext cx="2592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74" name="Straight Arrow Connector 47"/>
          <p:cNvCxnSpPr/>
          <p:nvPr/>
        </p:nvCxnSpPr>
        <p:spPr>
          <a:xfrm flipV="1">
            <a:off x="4770360" y="5925240"/>
            <a:ext cx="1191600" cy="80244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5" name="TextBox 3"/>
          <p:cNvSpPr/>
          <p:nvPr/>
        </p:nvSpPr>
        <p:spPr>
          <a:xfrm>
            <a:off x="3835440" y="6711840"/>
            <a:ext cx="23972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Logged I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817640" y="6750000"/>
            <a:ext cx="1860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accou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77" name="Straight Arrow Connector 47"/>
          <p:cNvCxnSpPr>
            <a:stCxn id="376" idx="0"/>
          </p:cNvCxnSpPr>
          <p:nvPr/>
        </p:nvCxnSpPr>
        <p:spPr>
          <a:xfrm flipV="1">
            <a:off x="2749680" y="5655960"/>
            <a:ext cx="2805840" cy="10944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83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84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385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S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p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TextBox 34"/>
          <p:cNvSpPr/>
          <p:nvPr/>
        </p:nvSpPr>
        <p:spPr>
          <a:xfrm>
            <a:off x="6301800" y="2181240"/>
            <a:ext cx="11581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Gill Sans"/>
              </a:rPr>
              <a:t>Login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393" name="Straight Arrow Connector 27"/>
          <p:cNvCxnSpPr/>
          <p:nvPr/>
        </p:nvCxnSpPr>
        <p:spPr>
          <a:xfrm flipH="1">
            <a:off x="6121080" y="2785680"/>
            <a:ext cx="2592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94" name="Straight Arrow Connector 28"/>
          <p:cNvCxnSpPr/>
          <p:nvPr/>
        </p:nvCxnSpPr>
        <p:spPr>
          <a:xfrm flipV="1">
            <a:off x="6525720" y="2785680"/>
            <a:ext cx="1080" cy="188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5" name="TextBox 23"/>
          <p:cNvSpPr/>
          <p:nvPr/>
        </p:nvSpPr>
        <p:spPr>
          <a:xfrm>
            <a:off x="8380080" y="1684440"/>
            <a:ext cx="2304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ash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817640" y="6750000"/>
            <a:ext cx="1860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accou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HTTP Location Header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09840" y="2674800"/>
            <a:ext cx="13237920" cy="527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If your application has not yet sent any data, it can send a special header as part of the HTTP Response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redirect header includes a URL that the browser is supposed to forward itself to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It was originally used for web sites that moved from one URL to another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710160" y="7622280"/>
            <a:ext cx="86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en.wikipedia.org/wiki/URL_redirecti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1214280" y="3929040"/>
            <a:ext cx="13781160" cy="4435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7364520" y="536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825840" y="57636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7324560" y="1374840"/>
            <a:ext cx="3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195264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ogin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402" name="Straight Arrow Connector 18"/>
          <p:cNvCxnSpPr/>
          <p:nvPr/>
        </p:nvCxnSpPr>
        <p:spPr>
          <a:xfrm>
            <a:off x="4375080" y="1577520"/>
            <a:ext cx="2958480" cy="5374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03" name="Straight Arrow Connector 26"/>
          <p:cNvCxnSpPr/>
          <p:nvPr/>
        </p:nvCxnSpPr>
        <p:spPr>
          <a:xfrm flipV="1">
            <a:off x="4103640" y="2180520"/>
            <a:ext cx="2355120" cy="137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4" name="Rectangle 22"/>
          <p:cNvSpPr/>
          <p:nvPr/>
        </p:nvSpPr>
        <p:spPr>
          <a:xfrm>
            <a:off x="1952640" y="1643040"/>
            <a:ext cx="248904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976480" y="5000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Right Arrow 1"/>
          <p:cNvSpPr/>
          <p:nvPr/>
        </p:nvSpPr>
        <p:spPr>
          <a:xfrm>
            <a:off x="2155680" y="635040"/>
            <a:ext cx="12570120" cy="671400"/>
          </a:xfrm>
          <a:prstGeom prst="rightArrow">
            <a:avLst>
              <a:gd name="adj1" fmla="val 50000"/>
              <a:gd name="adj2" fmla="val 500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505476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p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5114880" y="1643040"/>
            <a:ext cx="248616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1281240" y="6350040"/>
            <a:ext cx="13714200" cy="161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$_SESSION (C123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TextBox 14"/>
          <p:cNvSpPr/>
          <p:nvPr/>
        </p:nvSpPr>
        <p:spPr>
          <a:xfrm>
            <a:off x="10483920" y="13748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8217000" y="4702320"/>
            <a:ext cx="2554200" cy="1611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p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Rectangle 28"/>
          <p:cNvSpPr/>
          <p:nvPr/>
        </p:nvSpPr>
        <p:spPr>
          <a:xfrm>
            <a:off x="8272440" y="1643040"/>
            <a:ext cx="2487600" cy="1143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413" name="Straight Arrow Connector 29"/>
          <p:cNvCxnSpPr/>
          <p:nvPr/>
        </p:nvCxnSpPr>
        <p:spPr>
          <a:xfrm flipH="1">
            <a:off x="9214920" y="2785680"/>
            <a:ext cx="23040" cy="1917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14" name="Straight Arrow Connector 30"/>
          <p:cNvCxnSpPr/>
          <p:nvPr/>
        </p:nvCxnSpPr>
        <p:spPr>
          <a:xfrm flipV="1">
            <a:off x="9615240" y="2785680"/>
            <a:ext cx="1080" cy="188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15" name="TextBox 3"/>
          <p:cNvSpPr/>
          <p:nvPr/>
        </p:nvSpPr>
        <p:spPr>
          <a:xfrm>
            <a:off x="1817640" y="6750000"/>
            <a:ext cx="1860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"/>
              </a:rPr>
              <a:t>accou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TextBox 34"/>
          <p:cNvSpPr/>
          <p:nvPr/>
        </p:nvSpPr>
        <p:spPr>
          <a:xfrm>
            <a:off x="6301800" y="2181240"/>
            <a:ext cx="11581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Gill Sans"/>
              </a:rPr>
              <a:t>Login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11557440" y="1679400"/>
            <a:ext cx="3253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Refresh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418" name="Straight Arrow Connector 47"/>
          <p:cNvCxnSpPr>
            <a:stCxn id="415" idx="3"/>
          </p:cNvCxnSpPr>
          <p:nvPr/>
        </p:nvCxnSpPr>
        <p:spPr>
          <a:xfrm flipV="1">
            <a:off x="3677760" y="5790960"/>
            <a:ext cx="4993560" cy="131832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3285720" y="1140120"/>
            <a:ext cx="78030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3200" spc="-1" strike="noStrike">
                <a:solidFill>
                  <a:srgbClr val="dd495d"/>
                </a:solidFill>
                <a:latin typeface="Courier New"/>
              </a:rPr>
              <a:t>session_start</a:t>
            </a:r>
            <a:r>
              <a:rPr b="0" lang="en-US" sz="32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3200" spc="-1" strike="noStrike">
                <a:solidFill>
                  <a:srgbClr val="dd495d"/>
                </a:solidFill>
                <a:latin typeface="Courier New"/>
              </a:rPr>
              <a:t>session_destroy</a:t>
            </a:r>
            <a:r>
              <a:rPr b="0" lang="en-US" sz="32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3200" spc="-1" strike="noStrike">
                <a:solidFill>
                  <a:srgbClr val="dd495d"/>
                </a:solidFill>
                <a:latin typeface="Courier New"/>
              </a:rPr>
              <a:t>header</a:t>
            </a:r>
            <a:r>
              <a:rPr b="0" lang="en-US" sz="32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3200" spc="-1" strike="noStrike">
                <a:solidFill>
                  <a:srgbClr val="18b9b7"/>
                </a:solidFill>
                <a:latin typeface="Courier New"/>
              </a:rPr>
              <a:t>"Location: app.php"</a:t>
            </a:r>
            <a:r>
              <a:rPr b="0" lang="en-US" sz="32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12721680" y="939600"/>
            <a:ext cx="2963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logout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8670960" y="3389400"/>
            <a:ext cx="6729480" cy="5253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1386000" y="3389400"/>
            <a:ext cx="672624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861840" y="914400"/>
            <a:ext cx="15432120" cy="638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tml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ead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ead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tyle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7c2e3f"/>
                </a:solidFill>
                <a:latin typeface="Courier New"/>
              </a:rPr>
              <a:t>font-family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: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sans-serif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Cool Applicatio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h1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echo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'&lt;p style="color:green"&gt;'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.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en-US" sz="25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un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success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5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2500" spc="-1" strike="noStrike">
                <a:solidFill>
                  <a:srgbClr val="878699"/>
                </a:solidFill>
                <a:latin typeface="Courier New"/>
              </a:rPr>
              <a:t>// Check if we are logged in!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f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!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isset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account"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9f47a0"/>
                </a:solidFill>
                <a:latin typeface="Courier New"/>
              </a:rPr>
              <a:t>{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in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Log In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to start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c7c7c7"/>
                </a:solidFill>
                <a:latin typeface="Courier New"/>
              </a:rPr>
              <a:t>    </a:t>
            </a:r>
            <a:r>
              <a:rPr b="0" lang="hu-HU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2500" spc="-1" strike="noStrike">
                <a:solidFill>
                  <a:srgbClr val="dd495d"/>
                </a:solidFill>
                <a:latin typeface="Courier-Bold"/>
              </a:rPr>
              <a:t>else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9f47a0"/>
                </a:solidFill>
                <a:latin typeface="Courier New"/>
              </a:rPr>
              <a:t>{</a:t>
            </a:r>
            <a:r>
              <a:rPr b="0" lang="hu-HU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This is where a cool application would be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       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Please 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5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500" spc="-1" strike="noStrike">
                <a:solidFill>
                  <a:srgbClr val="18b9b7"/>
                </a:solidFill>
                <a:latin typeface="Courier New"/>
              </a:rPr>
              <a:t>"logout.php"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Log Out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a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500" spc="-1" strike="noStrike">
                <a:solidFill>
                  <a:srgbClr val="c7c7c7"/>
                </a:solidFill>
                <a:latin typeface="Courier New"/>
              </a:rPr>
              <a:t> when you are done</a:t>
            </a:r>
            <a:r>
              <a:rPr b="0" lang="en-US" sz="2500" spc="-1" strike="noStrike">
                <a:solidFill>
                  <a:srgbClr val="149c02"/>
                </a:solidFill>
                <a:latin typeface="Courier New"/>
              </a:rPr>
              <a:t>.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5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c7c7c7"/>
                </a:solidFill>
                <a:latin typeface="Courier New"/>
              </a:rPr>
              <a:t>    </a:t>
            </a:r>
            <a:r>
              <a:rPr b="0" lang="pl-PL" sz="25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pl-PL" sz="2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l-PL" sz="25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pl-PL" sz="2500" spc="-1" strike="noStrike">
                <a:solidFill>
                  <a:srgbClr val="dd495d"/>
                </a:solidFill>
                <a:latin typeface="Courier-Bold"/>
              </a:rPr>
              <a:t>body</a:t>
            </a: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pl-PL" sz="2500" spc="-1" strike="noStrike">
                <a:solidFill>
                  <a:srgbClr val="dd495d"/>
                </a:solidFill>
                <a:latin typeface="Courier-Bold"/>
              </a:rPr>
              <a:t>html</a:t>
            </a:r>
            <a:r>
              <a:rPr b="0" lang="pl-PL" sz="25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7117200" y="7886520"/>
            <a:ext cx="788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app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Summary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09840" y="3352320"/>
            <a:ext cx="13237920" cy="459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Redirec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Post-Redirect-Ge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Flash Message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10484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essions and Login / Logou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09840" y="707760"/>
            <a:ext cx="1323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Gill Sans"/>
              </a:rPr>
              <a:t>Acknowledgements / Contributions</a:t>
            </a:r>
            <a:endParaRPr b="0" lang="en-US" sz="4800" spc="-1" strike="noStrike">
              <a:solidFill>
                <a:srgbClr val="ffff00"/>
              </a:solidFill>
              <a:latin typeface="Gill Sans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13997160" y="849240"/>
            <a:ext cx="1969920" cy="6685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4"/>
          <p:cNvSpPr/>
          <p:nvPr/>
        </p:nvSpPr>
        <p:spPr>
          <a:xfrm>
            <a:off x="431640" y="1916280"/>
            <a:ext cx="71629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se slides are Copyright 2010-  Charles R. Severance (www.dr-chuck.com) as part of www.wa4e.com and made available under a Creative Commons Attribution 4.0 License.  Please maintain this slide in all copies of the document to comply with the attribution requirements of the license.  If you make a change, feel free to add your name and organization to the list of contributors on this page as you republish the material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itial Development: Charles Severance, University of Michigan School of Infor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Insert new Contributors and Translators here including names and d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8434440" y="1911240"/>
            <a:ext cx="71629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Continue new Contributors and Translators he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09840" y="779400"/>
            <a:ext cx="13237920" cy="10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cc66"/>
                </a:solidFill>
                <a:latin typeface="Gill Sans"/>
              </a:rPr>
              <a:t>Copyright Attribution</a:t>
            </a:r>
            <a:endParaRPr b="0" lang="en-US" sz="57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Cookie Image: By brainloc on sxc.hu (Bob Smith) (stock.xchng) [CC BY 2.5 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lvl="1" marL="711360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(http://creativecommons.org/licenses/by/2.5)], via Wikimedia Common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691800" y="8003160"/>
            <a:ext cx="842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php.net/manual/en/function.header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32" name="Group 1"/>
          <p:cNvGrpSpPr/>
          <p:nvPr/>
        </p:nvGrpSpPr>
        <p:grpSpPr>
          <a:xfrm>
            <a:off x="2338560" y="990720"/>
            <a:ext cx="11356920" cy="6711840"/>
            <a:chOff x="2338560" y="990720"/>
            <a:chExt cx="11356920" cy="6711840"/>
          </a:xfrm>
        </p:grpSpPr>
        <p:pic>
          <p:nvPicPr>
            <p:cNvPr id="133" name="Picture 1" descr=""/>
            <p:cNvPicPr/>
            <p:nvPr/>
          </p:nvPicPr>
          <p:blipFill>
            <a:blip r:embed="rId1"/>
            <a:stretch/>
          </p:blipFill>
          <p:spPr>
            <a:xfrm>
              <a:off x="2338560" y="990720"/>
              <a:ext cx="113569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"/>
            <p:cNvSpPr/>
            <p:nvPr/>
          </p:nvSpPr>
          <p:spPr>
            <a:xfrm>
              <a:off x="3483000" y="5276880"/>
              <a:ext cx="192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Gill Sans"/>
                </a:rPr>
                <a:t>&lt;= Error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814320" y="933120"/>
            <a:ext cx="9282240" cy="73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session_start(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isset($_POST['where']) )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_POST['where'] == '1' )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header("Location: redir1.php"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 else if ( $_POST['where'] == '2' )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header("Location: redir2.php?parm=123"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 else {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header("Location: http://www.dr-chuck.com"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htm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body style="font-family: sans-serif;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p&gt;I am Router Two...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form method="post"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p&gt;&lt;label for="inp9"&gt;Where to go? (1-3)&lt;/label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input type="text" name="where" id="inp9" size="5"&gt;&lt;/p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input type="submit"/&gt;&lt;/form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&lt;/body&gt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557560" y="8155800"/>
            <a:ext cx="7712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s://www.wa4e.com/code/route/redir1.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-50760" y="446040"/>
            <a:ext cx="6418080" cy="397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4484520" y="446040"/>
            <a:ext cx="6418440" cy="397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9887040" y="431640"/>
            <a:ext cx="6370560" cy="394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-109440" y="4862520"/>
            <a:ext cx="6002280" cy="3722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5"/>
          <a:stretch/>
        </p:blipFill>
        <p:spPr>
          <a:xfrm>
            <a:off x="4484520" y="4800600"/>
            <a:ext cx="6559560" cy="375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6"/>
          <a:stretch/>
        </p:blipFill>
        <p:spPr>
          <a:xfrm>
            <a:off x="8893080" y="4826160"/>
            <a:ext cx="7429680" cy="3809880"/>
          </a:xfrm>
          <a:prstGeom prst="rect">
            <a:avLst/>
          </a:prstGeom>
          <a:ln w="0">
            <a:noFill/>
          </a:ln>
        </p:spPr>
      </p:pic>
      <p:sp>
        <p:nvSpPr>
          <p:cNvPr id="143" name="Line 9"/>
          <p:cNvSpPr/>
          <p:nvPr/>
        </p:nvSpPr>
        <p:spPr>
          <a:xfrm flipV="1">
            <a:off x="13311360" y="3933720"/>
            <a:ext cx="10800" cy="1062000"/>
          </a:xfrm>
          <a:prstGeom prst="line">
            <a:avLst/>
          </a:prstGeom>
          <a:ln w="1015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7289640" y="3933720"/>
            <a:ext cx="12960" cy="1062000"/>
          </a:xfrm>
          <a:prstGeom prst="line">
            <a:avLst/>
          </a:prstGeom>
          <a:ln w="1015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2488320" y="3933720"/>
            <a:ext cx="11160" cy="1062000"/>
          </a:xfrm>
          <a:prstGeom prst="line">
            <a:avLst/>
          </a:prstGeom>
          <a:ln w="1015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760400" y="438120"/>
            <a:ext cx="12530160" cy="8705880"/>
          </a:xfrm>
          <a:prstGeom prst="rect">
            <a:avLst/>
          </a:prstGeom>
          <a:ln w="0">
            <a:noFill/>
          </a:ln>
        </p:spPr>
      </p:pic>
      <p:sp>
        <p:nvSpPr>
          <p:cNvPr id="147" name="Line 2"/>
          <p:cNvSpPr/>
          <p:nvPr/>
        </p:nvSpPr>
        <p:spPr>
          <a:xfrm flipV="1">
            <a:off x="3657600" y="5950080"/>
            <a:ext cx="2844720" cy="676080"/>
          </a:xfrm>
          <a:prstGeom prst="line">
            <a:avLst/>
          </a:prstGeom>
          <a:ln w="1015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7480" y="2100240"/>
            <a:ext cx="4603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Gill Sans"/>
                <a:ea typeface="ＭＳ Ｐゴシック"/>
              </a:rPr>
              <a:t>After we entered "2" and pressed "Submit"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638760" y="5638680"/>
            <a:ext cx="4604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Two pages were retriev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760400" y="423720"/>
            <a:ext cx="12530160" cy="8707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8399520" y="2133720"/>
            <a:ext cx="29192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Second pa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uo, Yuting</cp:lastModifiedBy>
  <dcterms:modified xsi:type="dcterms:W3CDTF">2019-11-21T18:47:22Z</dcterms:modified>
  <cp:revision>176</cp:revision>
  <dc:subject/>
  <dc:title>Cookies, Sessions, and Authentication</dc:title>
</cp:coreProperties>
</file>